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FBF-BD59-492B-87E5-F8BBDC13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B5E-20B6-4E61-A8D4-DDCD0FF2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EE4-86B3-4072-80FE-F18B9904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A0B-D17A-4BE2-B5CA-56FEFB44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54F5-34AC-4AD5-803B-00FEEDAD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F2D7-6E11-44F1-B35D-3A11F176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7909-CB8B-4A3C-9270-CBFDBC6B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E500-94FB-45B5-BEB2-435338E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38C2-67E8-41DE-B0D6-AEDE578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0BD0-84CE-4E6F-B87F-6612C39F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F068-DA9A-4623-8FAA-3BF8A29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50B-8B49-4A70-8BAA-2DC683C1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B0CC-D1C0-45E1-80D1-49A94C7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C279-492E-4AA1-9F56-B001055F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A45C-A3A5-4EDB-AAE4-789A48DC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19D9-ACE4-4359-A1FA-2C7E6885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158C-C2BE-4677-9B9B-A777F0FD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50F-543B-41CE-8FBC-FB8463A7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FD6-847E-4AD2-A568-19DC4736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EFFD-EBB2-4B88-94E9-2C2C680C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F9AA-015A-4A60-9B84-0915D69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574-4276-4879-9195-69063BD7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F2C-370C-4014-8430-801D715D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302-1904-45D4-AE08-EA987472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D9E1-C78C-4047-B4C9-0165457CE9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D7F8-B2A7-4E29-92CE-50A7BE05CD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и система обозна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Сед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 X для приборов с обратной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ярностью (основание корпуса - катод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ос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о, обозначающее класс по по­вторяющемуся импульсному напряжению в закры­том состоянии (сотни вольт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Дев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а цифр, обозначающая соче­тание классификационных параметров: для низкочастотных приборов (аббревиатура «зс» означает запертое состояние, а аббревиатура «кр» критическое значение);  и  для высо­кочастотных прибор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 для быстродействующих приборов; для симметричных ти­ристоров (симисторов) и тиристоров-диодов вместо (du3C/dt)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 классификационным параметром являет­ся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ОПТОЭЛЕКТРОННЫЕ ПРИБОРЫ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оэлектронных при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тоэлектронными называют приборы, которые чувствительны к электромагнитному излучению в видимой, инфракрасной и ультрафиолетовой областях, а также при­боры, производящие или использующие такое 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Излучающий диод (светодиод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щий диод, работающий в видимом диапазоне волн, часто называют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излучающим, или светодио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устройство, характеристики, параметры и систему обозначений излучающих ди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ройст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хематическое изображение структуры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щего диода представлено на рис. 1.120, а; его условное графическое обозначение - на рис. 1.120, 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ение возникает при протекании прямого тока диода в результате рекомбинации электронов и дырок в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и р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ерехода и в областях, примыкающих к указанной области. При рекомбинации излучаются фот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и и параметры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излучающих диодов, работающих в видимом диапазоне (длина волны от 0,38 до 0,78 мкм, частота около, но меньше 1015 Гц), ши­роко используются следующи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403280" y="1700280"/>
          <a:ext cx="629604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2960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635280" y="537372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злучающих диодов, работающих не в видимом диапазоне, используют характеристики, отражающие за­висимость мощности излуч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 тока дио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зим яркостную характеристику для светоизлучающего диода тип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2А (рис. 1.121). Цвет свечения это­го диода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– красны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63640" y="1628640"/>
          <a:ext cx="537840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37840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419640" y="5445000"/>
            <a:ext cx="172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м график зависимости силы света от тока для светоизлучающего диода типа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6A (рис. 1.122) (цвет свечения - крас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м зону возможных положений (рис. 1.123) графика зависимости мощности излучения от тока для излучающего диода типа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19A, работающего в инфра­красном диапазоне (длина волны 0,93...0,96 мк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15640" y="2133360"/>
            <a:ext cx="69850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пускаемые с 1980 г. тиристоры имеют классифика­цию и систему обозначений, установленные ГОСТ 20859.1-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92360" y="1716120"/>
          <a:ext cx="48308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16120"/>
                    <a:ext cx="48308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203640" y="5229360"/>
            <a:ext cx="1727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38640" cy="2852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508464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ведем для диода типа AJ119А его некоторые пара­мет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нарастания импульса излучения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более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н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емя спада импульса излучения - не более 1500 нс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ое прямое напряжение при i более 3 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янный максимально допустимый прямой ток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t &lt; +85°С - 200 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ература окружающей среды -60...+85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Система обозначени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вно существующая система обозначений предполагает использование двух или трех букв и трех цифр, например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6 или 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331 и приве­дена в [3]. Первая буква указывает на материал, вторая (или вторая и третья) - на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руктивное исполнение: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единичный светодиод, ЛС - ряд или матрица светодиодов. Последующие цифры (а иногда буквы) обознача­ют номер разработки. Нельзя не признать такую систему несоверше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В настоящее время источники излучения обозначают­ся как частный случай индикаторов. Современные обозна­чения индикаторов содержат семь элементов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ерв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буква И, обозначающая принадлеж­ность прибора к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синтезирующим индикаторам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ЗС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тор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, обозначающая вид индикато­ра: Н - вакуумные накаливаемые;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акуумные элект­ролюминесцентные; Ж - жидкокристаллические; П - полупроводниковые; Э - электролюминесце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Трети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ющая отобража­емую информацию: Д - единичная; Ц - цифровая; В - буквенно-цифровая; Т - шкальная; М - мнемоническая; Г - граф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Четвер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исло, указывающее на поряд­ковый номер разработки: номер с 1-го по 69-й - индика­торы без встроенного управления; с 70-го по 99-й - со встроенным управ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ква, обозначающая принадлеж­ность индикатора к одной из классификационных групп приборов, изготовленных по общему технологическому процессу. Используются буквы русского алфавита от А до Я (не употребляются 3, О, Ы, Ь, Ъ, Ш, 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Шест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обь или произведение, характери­зующее информационное поле индикатора (кроме единич­ных индикаторов). Для одноразрядных и многоразрядных сегментных индикаторов - дробь, числитель которой число сегментов, знаменатель - число разрядов. Для од­норазрядных и многоразрядных матричных индикато­ров - дробь, числитель которой - число разрядов, зна­менатель - произведение числа элементов в строке на число элементов в столбце. Для матричных индикаторов без фиксированных знакомест - произведение числа элементов в строке на число элементов в столбце.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монических и шкальных индикаторов шестой элемент указывает число элементов индик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эксплуатации находятся тиристоры, система обозначений кото­рых регламентировалась стандартами (ГОСТ 10862-72, ГОСТ 14069-72 и др.), в настоящее время отмененными. В основу обозначений тиристоров положен буквенно-цифровой код, состоящий из четырех элементов (ГОСТ 10862-7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Седьм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уква, обозначающая цвет свечения. Для одноцветных индикаторов: К - красный,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еле­ный, С - синий, Ж - желтый, Р - оранжевый, Г - го­лубой (для одиночных и полупроводниковых индикаторов всех видов). Для многоцветных индикаторов всех видов буква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Фоторезистор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торезистором называют полупроводниковый рези­стор, сопротивление которого чувствительно к электро­магнитному излучению в оптическом диапазоне спектра. Дадим схематическое изображение структуры фоторези­стора (рис. 1.124, а) и его условное графическое обозна­чение (рис. 1.124, 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771640" y="765000"/>
          <a:ext cx="3591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765000"/>
                    <a:ext cx="3591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635280" y="537372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торезисторы часто характеризуются зависимостью то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освещенности Е при заданном напряжении на резисторе. Это так называемая люкс-амперная характери­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азим такую характеристику для фоторезистора типа ФСК-Г7, который работает в видимой части спект­ра (рис. 1.12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340000" y="1341360"/>
          <a:ext cx="442908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4290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780000" y="5516640"/>
            <a:ext cx="1726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с. 1.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Часто используют следующие параметры фоторезисторов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2480" y="1412640"/>
            <a:ext cx="829152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инальное темновое (при отсутствии светового потока) сопротивление (для ФСК-Г7 это сопротив­ление равно 5 М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гральную чувствительность (чувствительность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интегральной, так как ее определяют при освещении фоторезистора светом сложного спект­рального состава). Интегральная чувствительность (токовая чувствитель­ность к световому потоку) S определяется выражением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называемый фототок (это разность между то­ком при освещении и током при отсутствии освещен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фоторезистора ФСК-Г7 S- 0,7 А/лм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932360" y="4221000"/>
                <a:ext cx="5032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r>
                          <m:t xml:space="preserve">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03280" y="4653000"/>
                <a:ext cx="1620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58920" y="5300640"/>
                <a:ext cx="16200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Фотодиод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смотрим устройства, основные физические процессы, характеристики и параметры фотоди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тройство и основные физические процессы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зобразим упрощенную структуру фотодиода (рис. 1.126, а) и его ус­ловное графическое обозначение (рис. 1.126, 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1280" y="5084640"/>
            <a:ext cx="1727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с. 1.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425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ческие процессы, протекающие в фотодиодах, носят обратный характер по отношению к процессам, протекающим в светодиодах. Основным физическим яв­лением в фотодиоде является генерация пар электрон- дырка в области перехода и в прилегающих к нему областях под действием изл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ерация пар электрон-дырка приводит к увеличению обратного тока диода при наличии обратного напряжения и к появлению напряж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 между анодом и катодом при разомкнутой цепи. Причем в соответствии со сделан­ным замечанием о разделении электронов и дырок (дырки переходят к аноду, а электроны - к катод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ервый элемент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буква или цифра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ает исходный материал: Г, или 1, - германий; К, или 2, - кремний; А, или 3, - арсенид галл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562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Второй элемент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(буква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4167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прибора: Н - диодный тиристор (динистор); У - триодный тирис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3800" spc="-1" strike="noStrike">
                <a:solidFill>
                  <a:srgbClr val="000000"/>
                </a:solidFill>
                <a:latin typeface="Times New Roman"/>
              </a:rPr>
              <a:t>рети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1 до 9), обозначающая порядковый номер модификации (разработки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Четвер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1 до 9), обозначающая классификационный размер корпуса прибор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Пяты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ифра (от 0 до 5), обозначающая кон­структивное исполне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Шестой элемен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, равное значению максималь­но допустимого среднего тока в открытом состоянии для тиристоров, лавинных тиристоров, оптотиристоров, комбинированно выключаемых тиристоров, максимально допустимого импульсного тока для импульсных тиристоров, максимально допустимого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его тока для симисторов и импульсного запираемого тока для запираемых тиристоров. Для тиристоров-диодов шестой элемент состоит из дроби, в числителе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й - значение максимально допустимого среднего тока в открытом состоянии, а в знаменателе - значение максимально допустимого среднего тока в обратном проводящем состоя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9:25:23Z</dcterms:created>
  <dc:creator>student</dc:creator>
  <dc:description/>
  <dc:language>en-US</dc:language>
  <cp:lastModifiedBy>student</cp:lastModifiedBy>
  <dcterms:modified xsi:type="dcterms:W3CDTF">2012-04-20T05:52:12Z</dcterms:modified>
  <cp:revision>5</cp:revision>
  <dc:subject/>
  <dc:title>Классификация и система обозначений</dc:title>
</cp:coreProperties>
</file>